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FAC4-737B-4512-B07D-FA503B6B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AE41-D2A5-453B-AB4D-8283870F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1D4F-42FC-4DF0-A767-9AA2D05B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5640-AB47-40C7-91A6-BFCBE846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2B5E-5F87-451A-A121-9408FD35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5460-F014-494F-A0C9-022706A0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1E6E-96AA-440C-8CE4-C503A785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B63C-D140-44B1-B50B-A80F1309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1E28-2976-4E04-A6B8-8C1F728B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CFA7-25F8-4FA0-94A4-6E852448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35E6-AC7C-441F-8F32-4A7C4FF7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3D07-055A-4634-8813-80C7D411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4450-8964-481B-BC6A-3CF4DF88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66C2-3A74-4E42-A8C9-191D2754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81F6-6DB1-43EC-A4FA-8E0F4A8D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E992-F0DB-4813-8119-6CE9375F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A76B-DF48-45E5-BE30-D5DC3207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F17C-2D6B-4376-872C-11D6FA55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B004-566B-4504-A4F6-E50C309D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424E-BF2F-4D0A-930E-7FAEE507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BF88-AEB9-4411-BCBB-B6025740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DF0C-B68B-42DD-8821-45D40A5E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2120-400A-42EA-946C-0CDC4C4B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EED3-7806-4571-ABC4-C6AB0AE6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E565-0257-4CF9-8448-72AC3BA55D1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2074-D261-4183-9F7F-139F4D6502B7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dfdef6"/>
                </a:solidFill>
                <a:latin typeface="Arial"/>
              </a:rPr>
              <a:t>Neuroendokrina kontrola reprodukcij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Eminencija medijana hipotalamusa luci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ipofizeotropne hormone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oslobađajuće i inhibirajuće) koji kontrolišu sekreciju prednjeg režnja hipofize: 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kortikotropinosloba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aju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i hormon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CRH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; 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tireotropin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osloba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aju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i hormon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TRH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; hormon koji oslobađa hormon rasta (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GRH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; hormon koji inhibira oslobadanje hormona rasta (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GIH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, poznat i kao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somatostatin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gonadotropin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oslobađajuci hormon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GnRH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; 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prolaktinosloba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aju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i hormon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PRH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 i 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prolaktin-inhibirajući hormon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PIH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. To područje sadrži malo neurona ali mnoštvo nervnih završetaka u neposrednoj blizini kapilarne petlje od koje polaze portalni sudovi (hipotalamohipofizarni portalni krvotok). Ovi nervni završeci potiču iz drugih područja hipotalamusa. 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Hipotalamički hipofizeotropni hormoni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ulaze u fenestrirane kapilare portalne cirkulacije i kontrolišu sekreciju hormona rasta, prolaktina, ACTH, FSH, LH, TSH iz adenohipofi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19_04"/>
          <p:cNvPicPr/>
          <p:nvPr/>
        </p:nvPicPr>
        <p:blipFill>
          <a:blip r:embed="rId1"/>
          <a:stretch/>
        </p:blipFill>
        <p:spPr>
          <a:xfrm>
            <a:off x="2433600" y="274680"/>
            <a:ext cx="427680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ovulatory-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Hipofizeotropni hormoni funkcionišu kao neurotransmiteri ili neuromodulatori u drugim delovima mozga, retini i autonomnom nervnom sistemu. Pored toga GRH luče tumori pankreasa a TRH i somatostatin su nadeni u gastrointestinalnom traktu. Svi hipofizeotropni hormoni su peptidi sa izuzetkom dopamina. Receptori za vecinu hipofizeotropnih hormona su zmijoliki i vezani sa G protein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Nervna kontrola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ituitarne žlezde ostvaruje se neurohumoralnom sekrecijom specijalizovanih neurosekretornih neurona (peptidergički neuron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000" spc="-1" strike="noStrike">
                <a:solidFill>
                  <a:srgbClr val="dfdef6"/>
                </a:solidFill>
                <a:latin typeface="Arial"/>
              </a:rPr>
              <a:t>Neurosekretorni neuroni </a:t>
            </a:r>
            <a:r>
              <a:rPr b="0" lang="sr-Latn-CS" sz="4000" spc="-1" strike="noStrike">
                <a:solidFill>
                  <a:srgbClr val="dfdef6"/>
                </a:solidFill>
                <a:latin typeface="Arial"/>
              </a:rPr>
              <a:t>imaju dve ulog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funkcionišu kao tipični neuroni: stvaraju i provode akcione potencij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funkcionišu kao endokrine žlezde: sintetišu neurohormone koji se aksoplazmatskim transportom (vezani za proteinske nosače – 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neurofizine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 prenose i skladište u akson terminalima u obliku sinaptičkih vezikula. U odgovoru na adekvatni stimulus neurosekretorni neuroni okidaju akcione potencijale koji prazne sinaptičke vezikule (Ca2+ posredovana egzocitoza) i oslobađaju neurohormone bilo direktno u sistemsku cirkulaciju (neurohipofiza) ili u portalni sistem (hipofizeotropni neuroni koji sintetišu i oslobađaju neurohormone u primarni pleksus hipofiznog portalnog sistem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dfdef6"/>
                </a:solidFill>
                <a:latin typeface="Arial"/>
              </a:rPr>
              <a:t>Neurosekretorni neuroni su prisutni u hipotalamusu gde su grupisani u dve</a:t>
            </a:r>
            <a:br>
              <a:rPr sz="2800"/>
            </a:br>
            <a:r>
              <a:rPr b="0" lang="sr-Latn-CS" sz="2800" spc="-1" strike="noStrike">
                <a:solidFill>
                  <a:srgbClr val="dfdef6"/>
                </a:solidFill>
                <a:latin typeface="Arial"/>
              </a:rPr>
              <a:t>odvojene populacije ćelija koje luče neurohormone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magnocelularni neurosekretorni sistem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čine supraoptika i paraventrikularna jedra koja stvaraju zajedniki supraoptikohipofizni trakt. Magnocelularni neuroni sintetišu i oslobađaju neurohormone: 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antidiuretski hormon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ADH) i 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oksitocin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parvicelularni neurosekretorni sistem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čine neurosekretorni neuroni 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tuberoinfundibularnog trakta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čiji se akson terminali završavaju direktno na kapilarima portalnih sudova eminencije medijane u koje sekretuju hipofizeotropne hormone. Oni predstavljaju zajednčiki završni put neuroendokrine regulacije. Parvicelularni neurosekretorni neuroni su uglavnom peptidergički sa izuzetkom dopaminergičkih neurosekretornih neurona koji sintetišu i oslobađaju prolaktin-inhibirajui faktor (PIF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Monoaminergički neuroni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zencefalona i donjeg dela moždanog stabla prenose informacije u magnocelularni i parvicelularni neurosekretorni si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onoaminergiki neuroni koji inervišu parvicelularne neurone proizvode i luče biogene amine koji kontrolišu oslobađanje hipofizeotropnih hormona. Funkciju magnocelularnog neurosekretornog sistema kontrolišu holinergički i noradrenergički neuron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 acetilholin (ACh) stimuliše oslobađanje ADH i oksitocin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 noradrenalin inhibira lučenje ADH i oksitoc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ako lučenje magnocelularnih i parvicelularnih peptidergikih neurona regulišu biogeni amini, neurosekretorni neuroni se mogu posmatrati i kao 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neuroefektorske ćelije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omeostatska regulacija je često anticipatorna i može se pokrenuti pre nego se pojavi bilo koji fiziološki deficit. Tokom evolucije, jedna od adaptacija u cilju preživljavanja je bila i usklađivanje aktivnosti životinja sa ciklusom svetlost-tama koju uzrokuje rotacija Zeml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ronobiologija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je naučna oblast koja ispituje periodične (ciklične) fenomene u živim organizmima i adaptaciju na solarne i lunarne ritmove. Ovi ciklusi su poznati kao biološki ritmovi - “hrono" znaci vreme a “biologija” se odnosi na studiranje ili nauku o životu. Direktni odgovori na svetlost i tamu jesu znacajni, ali pored toga, evolucijom su se formirali i biološki časovnici (“zeitgebers”) da podešavaju biološke procese prema spoljašnjim signalima – spoljašnji časovnici. Najvažniji spoljašnji casovnici su ciklus svetlost-tama, temperatura i socijalni znac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Centralni nervni sistem preko senzornih organa prima neprekidno informacije o promenama u unutrašnjoj i spoljašnjoj sredini organizma i pokreće efektorske mehanizme da prilagodi organizam tim promenam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red somatskih i autonomnih u efektorske mehanizme ubrajamo i endokrini si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ajlepši primer ove evolutivne adaptacije su “cirkadijalni" (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cirkadijalne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circa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“oko“ + 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dies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“dan“) ritmovi koji podešavaju procese i telesne funkcije tokom dana. Većina, ako ne sva živa bića imaju ritmičke fluktuacije telesnih funkcija koje traju oko 24 ca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od sisara, ćelije odgovorne za funkciju biološkog časovnika (endogenog generatora ritma) nalaze se u hipotalamusu grupisane u dva jedra –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suprahijazmatska jedra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SCN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–suprachiasmatic nuclei). Od hipotalamusa, endokrini i nervni putevi u ostale delove tela regulišu cirkadijalne rit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prkos činjenice da 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hipotalamus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čini manje od 1% ukupne zapremine ljudskog mozga, on sadrži veliki broj neuronskih krugova koji regulišu vitalne funkcije: telesnu temperaturu, osmolalnost telesnih tečnosti, unos tečnosti i hrane, itd.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a je tako najznačajniji organ u 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homeostatskoj kontroli unutrašnje sredine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homeostasis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, Walter Cannon, 193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Hipotalamus i limbički sistem primaju informacije direktno iz unutrašnje sredine i deluju direktno na unutrašnju sredinu. Ostali delovi mozga utiču na unutrašnju sredinu uglavnom indirektno, kroz dejstvo na spoljašnju sredin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ako je razmena supstanci izmedu krvi i mozga ograničena postojanjem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krvno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moždane barijere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za homeostatsku ulogu hipotalamusa je značajno istaći da se nalazi u grupi cirkumventrikularnih organa 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area postrema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subfornikalni organ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organum vaskulozum lamine terminalis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 koji su izvan „krvno-moždane barijere“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dfdef6"/>
                </a:solidFill>
                <a:latin typeface="Arial"/>
              </a:rPr>
              <a:t>Hipotalamus kontroliše lučenje hormona hipofiz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zadnji režanj hipofize (neurohipofizu) – 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nervnim putem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rednji režanj hipofize (adenohipofizu) – 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hipotalamusnim hormonima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oje luči u hipotalamo-hipofizni portalni sistem. Samo oni hipotalamusni hormoni koji regulišu lučenje adenohipofize nazivaju se 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hipofizeotropni hormo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9" descr="Hipotalamus hipofiza 2"/>
          <p:cNvPicPr/>
          <p:nvPr/>
        </p:nvPicPr>
        <p:blipFill>
          <a:blip r:embed="rId3"/>
          <a:stretch/>
        </p:blipFill>
        <p:spPr>
          <a:xfrm>
            <a:off x="747720" y="1600200"/>
            <a:ext cx="34574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figure2"/>
          <p:cNvPicPr/>
          <p:nvPr/>
        </p:nvPicPr>
        <p:blipFill>
          <a:blip r:embed="rId1"/>
          <a:stretch/>
        </p:blipFill>
        <p:spPr>
          <a:xfrm>
            <a:off x="0" y="0"/>
            <a:ext cx="6084720" cy="450864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0" y="5198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Verdana"/>
              </a:rPr>
              <a:t>Prikazi iz sedme knjige prvog izdanja (1543) Fabricie Andreasa Vesaliusa, su najstarije anatmske slike hipotalamo-hipofizne jedinice u Zapadnoj literatur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figure3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3"/>
          <p:cNvSpPr/>
          <p:nvPr/>
        </p:nvSpPr>
        <p:spPr>
          <a:xfrm>
            <a:off x="5364000" y="297000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Verdana"/>
              </a:rPr>
              <a:t>Crteži Leonarda da Vinci (1508-1509) iz Codici di Anatomia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figure4"/>
          <p:cNvPicPr/>
          <p:nvPr/>
        </p:nvPicPr>
        <p:blipFill>
          <a:blip r:embed="rId1"/>
          <a:stretch/>
        </p:blipFill>
        <p:spPr>
          <a:xfrm>
            <a:off x="0" y="0"/>
            <a:ext cx="4859280" cy="587700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3"/>
          <p:cNvSpPr/>
          <p:nvPr/>
        </p:nvSpPr>
        <p:spPr>
          <a:xfrm>
            <a:off x="4859280" y="1247040"/>
            <a:ext cx="428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Verdana"/>
              </a:rPr>
              <a:t>Detalj freske “Stvaranje Adama," Michelangelo Buonarroti, svod Sikstinske Kapele Vatikan (1508-1512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Verdana"/>
              </a:rPr>
              <a:t>Slika prikazuje kako Bog daje duhovni život Adamanu preko dodi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Verdana"/>
              </a:rPr>
              <a:t>Konture iste slike predstavljaju skicu sagitalnog preseka mozga uključujući hipotalamus, hipofizu i moždano stabl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0" y="9810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Eminentio mediana, deo hipotalamusa izvan krvno-moždane barijere, luči u primarni kapilarni pleksus hipofizeotropne hormone (oslobađajući i inhibirajući hormoni) koji kontrolišu lučenje prednjeg režnja hipofize. Portalne vene grade sekundarni kapilarni pleksus koji snabdeva 90% krvi za ćelije prednje hipofi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6" descr="Portni krvotok hipofize"/>
          <p:cNvPicPr/>
          <p:nvPr/>
        </p:nvPicPr>
        <p:blipFill>
          <a:blip r:embed="rId2"/>
          <a:stretch/>
        </p:blipFill>
        <p:spPr>
          <a:xfrm>
            <a:off x="457200" y="2597040"/>
            <a:ext cx="40384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20:53:26Z</dcterms:created>
  <dc:creator>Zivanovic</dc:creator>
  <dc:description/>
  <dc:language>en-US</dc:language>
  <cp:lastModifiedBy>nidza</cp:lastModifiedBy>
  <dcterms:modified xsi:type="dcterms:W3CDTF">2023-02-04T16:10:43Z</dcterms:modified>
  <cp:revision>10</cp:revision>
  <dc:subject/>
  <dc:title>Slide 1</dc:title>
</cp:coreProperties>
</file>